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1020-042F-40DF-8136-89C2C1BC88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09/18/illegal-drugs-facts-infographic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6B38-0063-4E42-AEFA-456F64D92A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2CB2-A2BA-4690-9184-2134D758C1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947-75FC-4FEC-A458-AFA07855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10F-4AEB-44D3-8BB2-32E2E3FA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75A-E668-4802-8967-060865D1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CDE-AE32-47AC-8D72-84534BF4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337-3757-41DE-AF4B-1537D1D8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B38-CA1A-4BEA-86D3-90232F22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0FF-8ACC-4C5C-9047-70042614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3D1-0E3E-4A52-8C67-B09131FF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E40-5E80-478D-9C02-A36FC96C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EC8-DA0D-4B96-B1EE-FC704ECC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CF7-C0FF-482F-88FC-5133202B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4EF-1B74-4C03-A953-84900155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EE94-FF03-4A68-8583-47324508228D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24264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a kilo of heroin cost on a UK stre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the farmer get for a kilo of opium poppies (used to make the heroin)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id the number of cannabis and cocaine users in the world rise or fall between 1998 and 2008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percentage of US teenagers use cannabi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o more people die per year from drugs, alcohol or tobacco? What is the percentage differenc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are the 5 most popular drugs in the worl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(check your answers on the next slid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475920"/>
            <a:ext cx="77612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Now read this to find out more about world drug use and argument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4720" y="3807000"/>
            <a:ext cx="3897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Linda Ruas</cp:lastModifiedBy>
  <dcterms:modified xsi:type="dcterms:W3CDTF">2014-05-26T20:48:19Z</dcterms:modified>
  <cp:revision>22</cp:revision>
  <dc:subject/>
  <dc:title>DRUGS</dc:title>
</cp:coreProperties>
</file>